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F34-2FBA-488F-AAA4-29D08B33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A2F3-62C3-426B-917E-C38DB698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560-80F8-4DC8-B5E7-4B632B90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CA5B-9E0B-4429-94AA-773D2B60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B64-5C37-4C4B-B984-D99DB536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2F1-8249-41B6-AB20-F12EE6BF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D6F-B1CF-4ED4-A5F3-832FE5E1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C73-E295-4B43-AFA5-EB9978FA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1198-6131-4E00-A47F-64F0EB40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788-DDE3-48B8-8EC0-46CF1A2B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665-BA77-4540-BF07-E0F60A1C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B45-61A0-4D9E-8506-D4325BC9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8718-0DC4-450C-86D8-4EC141A15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1800" y="368280"/>
            <a:ext cx="8821800" cy="6121440"/>
          </a:xfrm>
          <a:custGeom>
            <a:avLst/>
            <a:gdLst/>
            <a:ahLst/>
            <a:rect l="l" t="t" r="r" b="b"/>
            <a:pathLst>
              <a:path w="5896" h="4082">
                <a:moveTo>
                  <a:pt x="0" y="3855"/>
                </a:moveTo>
                <a:lnTo>
                  <a:pt x="226" y="3855"/>
                </a:lnTo>
                <a:lnTo>
                  <a:pt x="226" y="4082"/>
                </a:lnTo>
                <a:lnTo>
                  <a:pt x="5670" y="4082"/>
                </a:lnTo>
                <a:lnTo>
                  <a:pt x="5670" y="3855"/>
                </a:lnTo>
                <a:lnTo>
                  <a:pt x="5896" y="3855"/>
                </a:lnTo>
                <a:lnTo>
                  <a:pt x="5896" y="227"/>
                </a:lnTo>
                <a:lnTo>
                  <a:pt x="5670" y="227"/>
                </a:lnTo>
                <a:lnTo>
                  <a:pt x="5670" y="0"/>
                </a:lnTo>
                <a:lnTo>
                  <a:pt x="226" y="0"/>
                </a:lnTo>
                <a:lnTo>
                  <a:pt x="226" y="227"/>
                </a:lnTo>
                <a:lnTo>
                  <a:pt x="0" y="227"/>
                </a:lnTo>
                <a:lnTo>
                  <a:pt x="0" y="385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1720" y="538200"/>
            <a:ext cx="8481960" cy="57816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57160" y="3243240"/>
            <a:ext cx="83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メイリオ"/>
                <a:ea typeface="メイリオ"/>
              </a:rPr>
              <a:t>御 見 積 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7160" y="275436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60840" y="441972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05120" y="477504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1" name=""/>
          <p:cNvGrpSpPr/>
          <p:nvPr/>
        </p:nvGrpSpPr>
        <p:grpSpPr>
          <a:xfrm>
            <a:off x="631800" y="324000"/>
            <a:ext cx="8777160" cy="6210000"/>
            <a:chOff x="631800" y="324000"/>
            <a:chExt cx="8777160" cy="6210000"/>
          </a:xfrm>
        </p:grpSpPr>
        <p:sp>
          <p:nvSpPr>
            <p:cNvPr id="1422" name=""/>
            <p:cNvSpPr/>
            <p:nvPr/>
          </p:nvSpPr>
          <p:spPr>
            <a:xfrm>
              <a:off x="63180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6680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31800" y="59364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66800" y="72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31800" y="86364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66800" y="99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31800" y="113364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66800" y="126828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1800" y="140508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66800" y="153972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31800" y="167472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66800" y="180972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31800" y="194472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66800" y="207972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31800" y="221472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66800" y="2349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31800" y="248436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66800" y="2619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31800" y="275436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66800" y="2889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31800" y="3024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66800" y="315900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31800" y="329400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66800" y="342900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1800" y="356544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66800" y="37004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31800" y="383544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66800" y="39704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1800" y="410544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66800" y="424008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31800" y="437508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66800" y="451008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31800" y="464328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66800" y="477828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31800" y="491328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66800" y="504828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1800" y="518472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66800" y="531972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31800" y="545472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66800" y="5589720"/>
              <a:ext cx="135000" cy="13464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31800" y="572436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66800" y="5859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1800" y="599436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66800" y="6129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31800" y="6264360"/>
              <a:ext cx="13500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6680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90324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03824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17144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30644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44288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157788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71288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84788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8432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11932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25252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38752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52396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65896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9252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927520" y="639936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06396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198960" y="639936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33216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46716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60360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73860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87360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008600" y="639936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14504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280040" y="639936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41324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54824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68468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81968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5288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08788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22432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35932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492880" y="626436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62752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76432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899320" y="639936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03396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6896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0540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44040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573960" y="626436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0860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84540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980400" y="639936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11360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24860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38504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52004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65324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78824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92468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05968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19468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32968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46612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60112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73432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886932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005760" y="6264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140760" y="639936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274320" y="32400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13932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274320" y="59364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139320" y="72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274320" y="86364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139320" y="99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274320" y="113364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9139320" y="127008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9274320" y="140508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9139320" y="153972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9274320" y="167472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9139320" y="180972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9274320" y="194472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9139320" y="207972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9274320" y="221472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9139320" y="2349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9274320" y="248436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9139320" y="2619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9274320" y="275436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9139320" y="2889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9274320" y="302436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9139320" y="315900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274320" y="329400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9139320" y="34304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9274320" y="356544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9139320" y="37004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9274320" y="383544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9139320" y="39704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9274320" y="410544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9139320" y="424008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9274320" y="437508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9139320" y="4508640"/>
              <a:ext cx="135000" cy="13464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9274320" y="464328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9139320" y="477828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274320" y="491328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139320" y="504972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9274320" y="518472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9139320" y="531972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9274320" y="545472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9139320" y="5589720"/>
              <a:ext cx="135000" cy="13464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9274320" y="572436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9139320" y="5859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274320" y="599436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139320" y="612936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9274320" y="6264360"/>
              <a:ext cx="134640" cy="13500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0180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036800" y="45864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17324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308240" y="45864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4144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57644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71288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84788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98288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17880" y="45864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25432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89320" y="45864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52252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65752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9396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2896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06216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19716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33360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6860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02160" y="32400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3680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87360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08600" y="45864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14324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27824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41468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54968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8324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818240" y="45864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95468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089680" y="45864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22288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35788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549432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562932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76252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89752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3396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16896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30396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43896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57540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71040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84360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97860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1504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25004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383600" y="32400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51824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65504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790040" y="45864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92324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805824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19468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832968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464680" y="324000"/>
              <a:ext cx="13464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599320" y="458640"/>
              <a:ext cx="13500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873612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8871120" y="458640"/>
              <a:ext cx="134640" cy="135000"/>
            </a:xfrm>
            <a:prstGeom prst="rect">
              <a:avLst/>
            </a:prstGeom>
            <a:solidFill>
              <a:srgbClr val="99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9004320" y="324000"/>
              <a:ext cx="135000" cy="13464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903240" y="86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03240" y="1133640"/>
              <a:ext cx="135000" cy="13464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903240" y="140328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03240" y="167472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903240" y="194472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03240" y="2214720"/>
              <a:ext cx="135000" cy="13464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903240" y="2484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903240" y="2754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03240" y="3024360"/>
              <a:ext cx="135000" cy="13464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03240" y="329400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03240" y="356400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03240" y="38354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03240" y="4105440"/>
              <a:ext cx="135000" cy="13464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03240" y="437508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903240" y="464508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903240" y="491328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903240" y="518328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903240" y="545472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903240" y="5724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03240" y="5994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9002880" y="86364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9002880" y="1133640"/>
              <a:ext cx="134640" cy="13464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9002880" y="140328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9002880" y="167472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002880" y="194472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9002880" y="2214720"/>
              <a:ext cx="134640" cy="13464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9002880" y="248436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9002880" y="275436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9002880" y="3024360"/>
              <a:ext cx="134640" cy="13464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9002880" y="329400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9002880" y="356400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9002880" y="383544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9002880" y="4105440"/>
              <a:ext cx="134640" cy="13464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9002880" y="437508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9002880" y="464508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9002880" y="491328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9002880" y="518328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9002880" y="545472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9002880" y="572436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9002880" y="599436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0324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9002880" y="59364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17324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44288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71288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98288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25252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52252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9252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06216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33216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602160" y="59364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87180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14180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41324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68324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95288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22288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492880" y="59364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76252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03252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302520" y="59364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57216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84216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112160" y="59364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38180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65324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2324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93240" y="59364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46288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732880" y="593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03824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308240" y="612936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7788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84788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117880" y="612936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38752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65752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927520" y="612936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19716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46716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73680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00680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27824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54824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818240" y="6129360"/>
              <a:ext cx="13464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08788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35788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62752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89752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16752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43716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70716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97716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24680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1824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78824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05824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32788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59788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867880" y="612936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777160" y="6308640"/>
              <a:ext cx="135000" cy="135000"/>
            </a:xfrm>
            <a:prstGeom prst="rect">
              <a:avLst/>
            </a:prstGeom>
            <a:solidFill>
              <a:srgbClr val="9933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8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857160" y="2697120"/>
            <a:ext cx="83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メイリオ"/>
                <a:ea typeface="メイリオ"/>
              </a:rPr>
              <a:t>御 見 積 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857160" y="22082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857160" y="2973240"/>
            <a:ext cx="83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御 見 積 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857160" y="248436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3660840" y="485928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3705120" y="521496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3705480" y="548964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solidFill>
            <a:srgbClr val="808080"/>
          </a:solidFill>
          <a:ln w="177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gradFill rotWithShape="0">
            <a:gsLst>
              <a:gs pos="0">
                <a:srgbClr val="d0e7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857160" y="2522520"/>
            <a:ext cx="83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メイリオ"/>
                <a:ea typeface="メイリオ"/>
              </a:rPr>
              <a:t>御 見 積 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857160" y="20336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solidFill>
            <a:srgbClr val="808080"/>
          </a:solidFill>
          <a:ln w="177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gradFill rotWithShape="0">
            <a:gsLst>
              <a:gs pos="0">
                <a:srgbClr val="d0e78d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57160" y="2522520"/>
            <a:ext cx="83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メイリオ"/>
                <a:ea typeface="メイリオ"/>
              </a:rPr>
              <a:t>御 見 積 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57160" y="20336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solidFill>
            <a:srgbClr val="808080"/>
          </a:solidFill>
          <a:ln w="177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gradFill rotWithShape="0">
            <a:gsLst>
              <a:gs pos="0">
                <a:srgbClr val="9d3c3c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857160" y="2522520"/>
            <a:ext cx="83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メイリオ"/>
                <a:ea typeface="メイリオ"/>
              </a:rPr>
              <a:t>御 見 積 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857160" y="20336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8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8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8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solidFill>
            <a:srgbClr val="808080"/>
          </a:solidFill>
          <a:ln w="177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31800" y="324000"/>
            <a:ext cx="8777160" cy="6210000"/>
          </a:xfrm>
          <a:prstGeom prst="roundRect">
            <a:avLst>
              <a:gd name="adj" fmla="val 5009"/>
            </a:avLst>
          </a:prstGeom>
          <a:gradFill rotWithShape="0">
            <a:gsLst>
              <a:gs pos="0">
                <a:srgbClr val="6363b0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857160" y="2522520"/>
            <a:ext cx="83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メイリオ"/>
                <a:ea typeface="メイリオ"/>
              </a:rPr>
              <a:t>御 見 積 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57160" y="20336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ffffff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31800" y="368280"/>
            <a:ext cx="8821800" cy="6121440"/>
          </a:xfrm>
          <a:custGeom>
            <a:avLst/>
            <a:gdLst/>
            <a:ahLst/>
            <a:rect l="l" t="t" r="r" b="b"/>
            <a:pathLst>
              <a:path w="5896" h="4082">
                <a:moveTo>
                  <a:pt x="0" y="3855"/>
                </a:moveTo>
                <a:lnTo>
                  <a:pt x="226" y="3855"/>
                </a:lnTo>
                <a:lnTo>
                  <a:pt x="226" y="4082"/>
                </a:lnTo>
                <a:lnTo>
                  <a:pt x="5670" y="4082"/>
                </a:lnTo>
                <a:lnTo>
                  <a:pt x="5670" y="3855"/>
                </a:lnTo>
                <a:lnTo>
                  <a:pt x="5896" y="3855"/>
                </a:lnTo>
                <a:lnTo>
                  <a:pt x="5896" y="227"/>
                </a:lnTo>
                <a:lnTo>
                  <a:pt x="5670" y="227"/>
                </a:lnTo>
                <a:lnTo>
                  <a:pt x="5670" y="0"/>
                </a:lnTo>
                <a:lnTo>
                  <a:pt x="226" y="0"/>
                </a:lnTo>
                <a:lnTo>
                  <a:pt x="226" y="227"/>
                </a:lnTo>
                <a:lnTo>
                  <a:pt x="0" y="227"/>
                </a:lnTo>
                <a:lnTo>
                  <a:pt x="0" y="385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1720" y="538200"/>
            <a:ext cx="8481960" cy="57816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57160" y="2522520"/>
            <a:ext cx="83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メイリオ"/>
                <a:ea typeface="メイリオ"/>
              </a:rPr>
              <a:t>御 見 積 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7160" y="20336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31800" y="368280"/>
            <a:ext cx="8821800" cy="6121440"/>
          </a:xfrm>
          <a:custGeom>
            <a:avLst/>
            <a:gdLst/>
            <a:ahLst/>
            <a:rect l="l" t="t" r="r" b="b"/>
            <a:pathLst>
              <a:path w="5896" h="4082">
                <a:moveTo>
                  <a:pt x="0" y="3855"/>
                </a:moveTo>
                <a:lnTo>
                  <a:pt x="226" y="3855"/>
                </a:lnTo>
                <a:lnTo>
                  <a:pt x="226" y="4082"/>
                </a:lnTo>
                <a:lnTo>
                  <a:pt x="5670" y="4082"/>
                </a:lnTo>
                <a:lnTo>
                  <a:pt x="5670" y="3855"/>
                </a:lnTo>
                <a:lnTo>
                  <a:pt x="5896" y="3855"/>
                </a:lnTo>
                <a:lnTo>
                  <a:pt x="5896" y="227"/>
                </a:lnTo>
                <a:lnTo>
                  <a:pt x="5670" y="227"/>
                </a:lnTo>
                <a:lnTo>
                  <a:pt x="5670" y="0"/>
                </a:lnTo>
                <a:lnTo>
                  <a:pt x="226" y="0"/>
                </a:lnTo>
                <a:lnTo>
                  <a:pt x="226" y="227"/>
                </a:lnTo>
                <a:lnTo>
                  <a:pt x="0" y="227"/>
                </a:lnTo>
                <a:lnTo>
                  <a:pt x="0" y="385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1720" y="538200"/>
            <a:ext cx="8481960" cy="578160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7160" y="2697120"/>
            <a:ext cx="83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メイリオ"/>
                <a:ea typeface="メイリオ"/>
              </a:rPr>
              <a:t>御 見 積 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57160" y="22082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31800" y="368280"/>
            <a:ext cx="8821800" cy="6121440"/>
          </a:xfrm>
          <a:custGeom>
            <a:avLst/>
            <a:gdLst/>
            <a:ahLst/>
            <a:rect l="l" t="t" r="r" b="b"/>
            <a:pathLst>
              <a:path w="5896" h="4082">
                <a:moveTo>
                  <a:pt x="0" y="3855"/>
                </a:moveTo>
                <a:lnTo>
                  <a:pt x="226" y="3855"/>
                </a:lnTo>
                <a:lnTo>
                  <a:pt x="226" y="4082"/>
                </a:lnTo>
                <a:lnTo>
                  <a:pt x="5670" y="4082"/>
                </a:lnTo>
                <a:lnTo>
                  <a:pt x="5670" y="3855"/>
                </a:lnTo>
                <a:lnTo>
                  <a:pt x="5896" y="3855"/>
                </a:lnTo>
                <a:lnTo>
                  <a:pt x="5896" y="227"/>
                </a:lnTo>
                <a:lnTo>
                  <a:pt x="5670" y="227"/>
                </a:lnTo>
                <a:lnTo>
                  <a:pt x="5670" y="0"/>
                </a:lnTo>
                <a:lnTo>
                  <a:pt x="226" y="0"/>
                </a:lnTo>
                <a:lnTo>
                  <a:pt x="226" y="227"/>
                </a:lnTo>
                <a:lnTo>
                  <a:pt x="0" y="227"/>
                </a:lnTo>
                <a:lnTo>
                  <a:pt x="0" y="385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1720" y="538200"/>
            <a:ext cx="8481960" cy="578160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57160" y="2697120"/>
            <a:ext cx="83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メイリオ"/>
                <a:ea typeface="メイリオ"/>
              </a:rPr>
              <a:t>御 見 積 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7160" y="22082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31800" y="368280"/>
            <a:ext cx="8821800" cy="6121440"/>
          </a:xfrm>
          <a:custGeom>
            <a:avLst/>
            <a:gdLst/>
            <a:ahLst/>
            <a:rect l="l" t="t" r="r" b="b"/>
            <a:pathLst>
              <a:path w="5896" h="4082">
                <a:moveTo>
                  <a:pt x="0" y="3855"/>
                </a:moveTo>
                <a:lnTo>
                  <a:pt x="226" y="3855"/>
                </a:lnTo>
                <a:lnTo>
                  <a:pt x="226" y="4082"/>
                </a:lnTo>
                <a:lnTo>
                  <a:pt x="5670" y="4082"/>
                </a:lnTo>
                <a:lnTo>
                  <a:pt x="5670" y="3855"/>
                </a:lnTo>
                <a:lnTo>
                  <a:pt x="5896" y="3855"/>
                </a:lnTo>
                <a:lnTo>
                  <a:pt x="5896" y="227"/>
                </a:lnTo>
                <a:lnTo>
                  <a:pt x="5670" y="227"/>
                </a:lnTo>
                <a:lnTo>
                  <a:pt x="5670" y="0"/>
                </a:lnTo>
                <a:lnTo>
                  <a:pt x="226" y="0"/>
                </a:lnTo>
                <a:lnTo>
                  <a:pt x="226" y="227"/>
                </a:lnTo>
                <a:lnTo>
                  <a:pt x="0" y="227"/>
                </a:lnTo>
                <a:lnTo>
                  <a:pt x="0" y="385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01720" y="538200"/>
            <a:ext cx="8481960" cy="57816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7160" y="2697120"/>
            <a:ext cx="83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メイリオ"/>
                <a:ea typeface="メイリオ"/>
              </a:rPr>
              <a:t>御 見 積 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7160" y="22082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631800" y="324000"/>
            <a:ext cx="8777160" cy="6210000"/>
            <a:chOff x="631800" y="324000"/>
            <a:chExt cx="8777160" cy="6210000"/>
          </a:xfrm>
        </p:grpSpPr>
        <p:sp>
          <p:nvSpPr>
            <p:cNvPr id="109" name=""/>
            <p:cNvSpPr/>
            <p:nvPr/>
          </p:nvSpPr>
          <p:spPr>
            <a:xfrm>
              <a:off x="6318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680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1800" y="59364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6800" y="72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1800" y="86364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800" y="99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1800" y="113364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6800" y="12682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1800" y="140508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800" y="153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1800" y="167472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6800" y="180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800" y="194472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6800" y="207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1800" y="221472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6800" y="234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1800" y="248436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6800" y="261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1800" y="275436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6800" y="288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800" y="3024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6800" y="315900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1800" y="329400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6800" y="342900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1800" y="356544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6800" y="37004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1800" y="383544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6800" y="39704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1800" y="410544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6800" y="42400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1800" y="437508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6800" y="45100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1800" y="464328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6800" y="47782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1800" y="491328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6800" y="50482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1800" y="518472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66800" y="531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1800" y="545472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6800" y="5589720"/>
              <a:ext cx="135000" cy="1346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1800" y="572436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6800" y="585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1800" y="599436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6800" y="612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1800" y="626436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680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32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3824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714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0644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428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78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128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478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43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193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525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875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2396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5896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2752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6396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9896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3216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6716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0360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3860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7360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0860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1450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8004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32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4824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846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196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528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878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243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593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92880" y="626436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75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643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9932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3396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6896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0540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4040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73960" y="626436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0860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4540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8040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1360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4860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50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2004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532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8824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46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96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946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296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661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6011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7343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693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0576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076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274320" y="32400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3932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274320" y="59364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39320" y="72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274320" y="86364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39320" y="99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274320" y="113364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39320" y="12700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274320" y="140508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139320" y="153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274320" y="167472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139320" y="180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274320" y="194472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39320" y="207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274320" y="221472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139320" y="234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74320" y="248436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139320" y="261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274320" y="275436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139320" y="288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274320" y="3024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39320" y="315900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274320" y="329400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39320" y="34304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9274320" y="356544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139320" y="37004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274320" y="383544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139320" y="39704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274320" y="410544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139320" y="42400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274320" y="437508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139320" y="4508640"/>
              <a:ext cx="135000" cy="1346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274320" y="464328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139320" y="47782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274320" y="491328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139320" y="504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274320" y="518472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139320" y="531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274320" y="545472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139320" y="5589720"/>
              <a:ext cx="135000" cy="1346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274320" y="572436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139320" y="585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74320" y="599436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39320" y="612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74320" y="626436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018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3680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732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824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414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7644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128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4788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828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1788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543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8932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25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5752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9396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2896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06216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9716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336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6860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02160" y="32400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680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736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0860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432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7824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146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4968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32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1824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546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8968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228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5788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4943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2932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625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9752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3396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6896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396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3896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54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1040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436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7860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150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5004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83600" y="32400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1824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550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9004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32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5824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946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2968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64680" y="32400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9932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7361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87112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0043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03240" y="86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03240" y="1133640"/>
              <a:ext cx="13500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03240" y="140328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03240" y="167472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03240" y="194472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03240" y="2214720"/>
              <a:ext cx="13500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03240" y="2484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3240" y="2754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03240" y="3024360"/>
              <a:ext cx="13500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03240" y="329400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03240" y="356400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03240" y="38354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03240" y="4105440"/>
              <a:ext cx="13500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03240" y="437508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03240" y="464508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03240" y="491328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03240" y="518328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03240" y="545472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03240" y="5724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3240" y="5994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02880" y="86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002880" y="1133640"/>
              <a:ext cx="13464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002880" y="140328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002880" y="167472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002880" y="194472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002880" y="2214720"/>
              <a:ext cx="13464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002880" y="2484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002880" y="2754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002880" y="3024360"/>
              <a:ext cx="13464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002880" y="329400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002880" y="356400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002880" y="38354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002880" y="4105440"/>
              <a:ext cx="13464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002880" y="437508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002880" y="464508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002880" y="491328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9002880" y="518328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002880" y="545472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002880" y="5724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002880" y="5994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0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00288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7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1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8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5252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2252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9252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6216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3216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0216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7180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4180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1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8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5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2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9288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6252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3252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252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7216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4216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1216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5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2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9324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46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3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3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08240" y="6129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7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4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17880" y="6129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8752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65752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27520" y="6129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9716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716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3680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0680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7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4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18240" y="6129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8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5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2752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89752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6752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3716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70716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7716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4680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1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8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05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2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9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86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777160" y="6308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57160" y="3332160"/>
            <a:ext cx="83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メイリオ"/>
                <a:ea typeface="メイリオ"/>
              </a:rPr>
              <a:t>御 見 積 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57160" y="284328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660840" y="450864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705120" y="486396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631800" y="324000"/>
            <a:ext cx="8777160" cy="6210000"/>
            <a:chOff x="631800" y="324000"/>
            <a:chExt cx="8777160" cy="6210000"/>
          </a:xfrm>
        </p:grpSpPr>
        <p:sp>
          <p:nvSpPr>
            <p:cNvPr id="432" name=""/>
            <p:cNvSpPr/>
            <p:nvPr/>
          </p:nvSpPr>
          <p:spPr>
            <a:xfrm>
              <a:off x="6318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680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1800" y="59364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66800" y="72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1800" y="86364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6800" y="99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1800" y="113364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6800" y="12682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1800" y="140508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800" y="153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1800" y="167472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6800" y="180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1800" y="194472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6800" y="207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1800" y="221472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6800" y="234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1800" y="248436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800" y="261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1800" y="275436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6800" y="288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800" y="3024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6800" y="315900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1800" y="329400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6800" y="342900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1800" y="356544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800" y="37004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1800" y="383544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6800" y="39704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1800" y="410544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6800" y="42400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1800" y="437508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800" y="45100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31800" y="464328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6800" y="47782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1800" y="491328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6800" y="50482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800" y="518472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6800" y="531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800" y="545472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6800" y="5589720"/>
              <a:ext cx="135000" cy="1346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1800" y="572436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6800" y="585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1800" y="599436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6800" y="612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1800" y="6264360"/>
              <a:ext cx="13500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80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032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03824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714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0644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428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778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128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478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843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193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525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875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2396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5896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925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2752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6396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9896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216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6716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0360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3860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7360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0860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450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8004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132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4824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846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196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528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878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243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593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92880" y="626436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275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643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9932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3396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6896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540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44040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573960" y="626436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0860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4540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80400" y="6399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1360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24860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850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2004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5324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8824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246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0596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19468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32968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4661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6011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73432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86932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005760" y="6264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140760" y="639936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274320" y="32400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13932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274320" y="59364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139320" y="72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274320" y="86364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139320" y="99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274320" y="113364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39320" y="12700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274320" y="140508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139320" y="153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9274320" y="167472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139320" y="180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274320" y="194472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139320" y="207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274320" y="221472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139320" y="234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274320" y="248436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139320" y="261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74320" y="275436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139320" y="288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274320" y="302436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139320" y="315900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9274320" y="329400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139320" y="34304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274320" y="356544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139320" y="37004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74320" y="383544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139320" y="39704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274320" y="410544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139320" y="42400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9274320" y="437508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139320" y="4508640"/>
              <a:ext cx="135000" cy="1346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274320" y="464328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39320" y="477828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9274320" y="491328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139320" y="504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274320" y="518472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9139320" y="531972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274320" y="545472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139320" y="5589720"/>
              <a:ext cx="135000" cy="1346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274320" y="572436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139320" y="585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274320" y="599436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139320" y="612936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9274320" y="6264360"/>
              <a:ext cx="134640" cy="135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9018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03680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732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30824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414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7644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128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4788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9828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11788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543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38932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225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5752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9396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2896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6216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19716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3336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6860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02160" y="32400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3680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736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0860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432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7824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146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4968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832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81824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546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8968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2228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5788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943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2932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625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9752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3396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6896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0396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3896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754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1040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4360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7860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150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5004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83600" y="32400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51824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550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9004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2324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05824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19468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2968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64680" y="324000"/>
              <a:ext cx="13464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599320" y="458640"/>
              <a:ext cx="13500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7361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871120" y="458640"/>
              <a:ext cx="134640" cy="13500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004320" y="324000"/>
              <a:ext cx="135000" cy="134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03240" y="86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03240" y="1133640"/>
              <a:ext cx="13500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03240" y="140328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03240" y="167472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03240" y="194472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03240" y="2214720"/>
              <a:ext cx="13500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03240" y="2484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03240" y="2754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03240" y="3024360"/>
              <a:ext cx="13500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03240" y="329400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03240" y="356400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03240" y="38354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03240" y="4105440"/>
              <a:ext cx="13500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03240" y="437508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03240" y="464508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3240" y="491328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03240" y="518328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03240" y="545472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03240" y="5724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03240" y="5994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002880" y="86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002880" y="1133640"/>
              <a:ext cx="13464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002880" y="140328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002880" y="167472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002880" y="194472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002880" y="2214720"/>
              <a:ext cx="13464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002880" y="2484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002880" y="2754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002880" y="3024360"/>
              <a:ext cx="13464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9002880" y="329400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9002880" y="356400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002880" y="38354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002880" y="4105440"/>
              <a:ext cx="134640" cy="13464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002880" y="437508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002880" y="464508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002880" y="491328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002880" y="518328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002880" y="545472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02880" y="5724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9002880" y="5994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0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00288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7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4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1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8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5252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2252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79252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6216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3216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0216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7180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4180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1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8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5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2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9288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6252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3252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30252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7216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4216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8180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65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92324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93240" y="59364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46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732880" y="593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3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308240" y="6129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57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84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17880" y="6129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8752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5752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927520" y="6129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9716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46716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3680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00680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27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4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818240" y="6129360"/>
              <a:ext cx="13464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8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5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2752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9752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6752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3716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70716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97716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4680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51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78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5824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32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59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867880" y="612936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777160" y="6308640"/>
              <a:ext cx="135000" cy="135000"/>
            </a:xfrm>
            <a:prstGeom prst="rect">
              <a:avLst/>
            </a:pr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57160" y="2522520"/>
            <a:ext cx="83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メイリオ"/>
                <a:ea typeface="メイリオ"/>
              </a:rPr>
              <a:t>御 見 積 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57160" y="20336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631800" y="324000"/>
            <a:ext cx="8777160" cy="6210000"/>
            <a:chOff x="631800" y="324000"/>
            <a:chExt cx="8777160" cy="6210000"/>
          </a:xfrm>
        </p:grpSpPr>
        <p:sp>
          <p:nvSpPr>
            <p:cNvPr id="762" name=""/>
            <p:cNvSpPr/>
            <p:nvPr/>
          </p:nvSpPr>
          <p:spPr>
            <a:xfrm>
              <a:off x="63180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680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1800" y="59364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6800" y="72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1800" y="86364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66800" y="99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1800" y="113364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6800" y="126828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31800" y="140508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66800" y="153972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31800" y="167472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66800" y="180972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31800" y="194472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6800" y="207972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31800" y="221472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66800" y="2349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1800" y="248436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66800" y="2619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1800" y="275436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66800" y="2889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1800" y="3024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6800" y="315900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1800" y="329400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6800" y="342900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1800" y="356544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6800" y="37004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1800" y="383544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66800" y="39704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31800" y="410544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6800" y="424008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1800" y="437508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66800" y="451008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1800" y="464328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66800" y="477828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1800" y="491328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6800" y="504828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31800" y="518472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6800" y="531972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1800" y="545472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66800" y="5589720"/>
              <a:ext cx="135000" cy="13464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31800" y="572436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6800" y="5859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1800" y="599436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6800" y="6129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1800" y="6264360"/>
              <a:ext cx="13500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680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90324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03824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7144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30644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4288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7788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71288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84788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8432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11932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5252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8752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52396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5896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9252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927520" y="639936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06396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98960" y="639936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3216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46716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0360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73860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7360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08600" y="639936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14504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80040" y="639936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1324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4824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8468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1968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5288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08788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2432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5932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92880" y="626436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2752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76432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899320" y="639936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03396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6896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30540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44040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573960" y="626436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70860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4540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980400" y="639936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1360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24860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38504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2004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65324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8824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92468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968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19468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32968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46612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60112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73432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86932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9005760" y="6264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140760" y="639936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274320" y="32400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13932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274320" y="59364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9139320" y="72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9274320" y="86364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9139320" y="99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274320" y="113364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9320" y="127008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274320" y="140508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139320" y="153972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274320" y="167472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139320" y="180972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274320" y="194472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139320" y="207972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274320" y="221472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139320" y="2349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9274320" y="248436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9139320" y="2619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9274320" y="275436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139320" y="2889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9274320" y="302436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9139320" y="315900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274320" y="329400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139320" y="34304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9274320" y="356544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9139320" y="37004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9274320" y="383544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9139320" y="39704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9274320" y="410544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9139320" y="424008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274320" y="437508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139320" y="4508640"/>
              <a:ext cx="135000" cy="13464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274320" y="464328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139320" y="477828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274320" y="491328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139320" y="504972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274320" y="518472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139320" y="531972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9274320" y="545472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9139320" y="5589720"/>
              <a:ext cx="135000" cy="13464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9274320" y="572436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9139320" y="5859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9274320" y="599436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139320" y="612936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274320" y="6264360"/>
              <a:ext cx="134640" cy="1350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90180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36800" y="45864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17324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308240" y="45864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144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57644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1288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84788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98288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7880" y="45864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25432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89320" y="45864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2252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5752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9396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92896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06216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19716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3360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860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02160" y="32400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73680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87360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08600" y="45864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14324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7824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41468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54968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8324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18240" y="45864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95468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089680" y="45864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22288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5788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49432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62932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6252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89752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03396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6896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30396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3896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7540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1040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4360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97860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11504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5004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83600" y="32400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51824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65504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790040" y="45864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92324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05824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19468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32968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464680" y="324000"/>
              <a:ext cx="13464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599320" y="458640"/>
              <a:ext cx="13500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73612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871120" y="458640"/>
              <a:ext cx="134640" cy="1350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004320" y="324000"/>
              <a:ext cx="135000" cy="1346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903240" y="86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03240" y="1133640"/>
              <a:ext cx="135000" cy="13464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903240" y="140328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903240" y="167472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03240" y="194472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03240" y="2214720"/>
              <a:ext cx="135000" cy="13464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903240" y="2484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03240" y="2754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03240" y="3024360"/>
              <a:ext cx="135000" cy="13464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03240" y="329400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03240" y="356400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03240" y="38354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903240" y="4105440"/>
              <a:ext cx="135000" cy="13464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03240" y="437508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903240" y="464508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903240" y="491328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03240" y="518328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03240" y="545472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903240" y="5724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03240" y="5994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9002880" y="86364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002880" y="1133640"/>
              <a:ext cx="134640" cy="13464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002880" y="140328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002880" y="167472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9002880" y="194472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002880" y="2214720"/>
              <a:ext cx="134640" cy="13464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002880" y="248436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002880" y="275436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9002880" y="3024360"/>
              <a:ext cx="134640" cy="13464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9002880" y="329400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9002880" y="356400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002880" y="383544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9002880" y="4105440"/>
              <a:ext cx="134640" cy="13464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9002880" y="437508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002880" y="464508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002880" y="491328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002880" y="518328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9002880" y="545472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9002880" y="572436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9002880" y="599436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90324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002880" y="59364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17324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44288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71288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98288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25252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2252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79252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33216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602160" y="59364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87180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4180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41324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68324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5288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22288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492880" y="59364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76252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3252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02520" y="59364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57216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4216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12160" y="59364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38180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65324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92324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93240" y="59364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846288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732880" y="593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03824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308240" y="612936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57788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84788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17880" y="612936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38752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65752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27520" y="612936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19716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46716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73680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0680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7824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54824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18240" y="6129360"/>
              <a:ext cx="13464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08788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5788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62752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9752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16752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3716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70716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97716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4680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51824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78824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805824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32788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59788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867880" y="612936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777160" y="6308640"/>
              <a:ext cx="135000" cy="13500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57160" y="2697120"/>
            <a:ext cx="83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メイリオ"/>
                <a:ea typeface="メイリオ"/>
              </a:rPr>
              <a:t>御 見 積 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57160" y="22082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"/>
          <p:cNvGrpSpPr/>
          <p:nvPr/>
        </p:nvGrpSpPr>
        <p:grpSpPr>
          <a:xfrm>
            <a:off x="631800" y="324000"/>
            <a:ext cx="8777160" cy="6210000"/>
            <a:chOff x="631800" y="324000"/>
            <a:chExt cx="8777160" cy="6210000"/>
          </a:xfrm>
        </p:grpSpPr>
        <p:sp>
          <p:nvSpPr>
            <p:cNvPr id="1092" name=""/>
            <p:cNvSpPr/>
            <p:nvPr/>
          </p:nvSpPr>
          <p:spPr>
            <a:xfrm>
              <a:off x="63180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6680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31800" y="59364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66800" y="72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1800" y="86364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66800" y="99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31800" y="113364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66800" y="126828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1800" y="140508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66800" y="153972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1800" y="167472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66800" y="180972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1800" y="194472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66800" y="207972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1800" y="221472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66800" y="2349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1800" y="248436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66800" y="2619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31800" y="275436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6800" y="2889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31800" y="3024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66800" y="315900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31800" y="329400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6800" y="342900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31800" y="356544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6800" y="37004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1800" y="383544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66800" y="39704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1800" y="410544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66800" y="424008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1800" y="437508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6800" y="451008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31800" y="464328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66800" y="477828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1800" y="491328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66800" y="504828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1800" y="518472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66800" y="531972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31800" y="545472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66800" y="5589720"/>
              <a:ext cx="135000" cy="13464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31800" y="572436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66800" y="5859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1800" y="599436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66800" y="6129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800" y="6264360"/>
              <a:ext cx="13500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6680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90324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03824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7144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30644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4288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7788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71288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84788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98432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11932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25252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38752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52396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65896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9252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927520" y="639936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6396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198960" y="639936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3216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6716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60360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73860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7360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08600" y="639936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14504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80040" y="639936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1324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54824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8468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1968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95288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8788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432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35932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492880" y="626436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62752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6432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899320" y="639936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03396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16896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30540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44040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573960" y="626436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0860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84540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80400" y="639936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11360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24860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38504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52004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65324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8824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92468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05968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19468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32968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46612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60112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73432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86932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9005760" y="6264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9140760" y="639936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9274320" y="32400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913932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9274320" y="59364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9139320" y="72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9274320" y="86364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9139320" y="99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9274320" y="113364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9139320" y="127008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9274320" y="140508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139320" y="153972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274320" y="167472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9139320" y="180972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9274320" y="194472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139320" y="207972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9274320" y="221472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9139320" y="2349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274320" y="248436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9139320" y="2619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9274320" y="275436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139320" y="2889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274320" y="302436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139320" y="315900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274320" y="329400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9139320" y="34304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9274320" y="356544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9139320" y="37004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9274320" y="383544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139320" y="39704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9274320" y="410544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139320" y="424008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274320" y="437508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9139320" y="4508640"/>
              <a:ext cx="135000" cy="13464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9274320" y="464328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9139320" y="477828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9274320" y="491328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139320" y="504972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274320" y="518472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9139320" y="531972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9274320" y="545472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9139320" y="5589720"/>
              <a:ext cx="135000" cy="13464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274320" y="572436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9139320" y="5859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9274320" y="599436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9139320" y="612936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274320" y="6264360"/>
              <a:ext cx="134640" cy="135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90180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36800" y="45864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17324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308240" y="45864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44144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57644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71288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84788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98288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117880" y="45864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25432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389320" y="45864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52252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5752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79396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92896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6216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19716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3360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46860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602160" y="32400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73680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87360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008600" y="45864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14324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7824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41468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54968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8324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818240" y="45864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95468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089680" y="45864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22288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35788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9432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2932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6252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89752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03396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16896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0396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3896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7540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71040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84360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97860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11504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25004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383600" y="32400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51824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65504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790040" y="45864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92324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05824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19468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2968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64680" y="324000"/>
              <a:ext cx="13464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599320" y="458640"/>
              <a:ext cx="13500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73612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871120" y="458640"/>
              <a:ext cx="134640" cy="1350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004320" y="324000"/>
              <a:ext cx="135000" cy="13464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03240" y="86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903240" y="1133640"/>
              <a:ext cx="135000" cy="13464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903240" y="140328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903240" y="167472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903240" y="194472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903240" y="2214720"/>
              <a:ext cx="135000" cy="13464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903240" y="2484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03240" y="2754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03240" y="3024360"/>
              <a:ext cx="135000" cy="13464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903240" y="329400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903240" y="356400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903240" y="38354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903240" y="4105440"/>
              <a:ext cx="135000" cy="13464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903240" y="437508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903240" y="464508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903240" y="491328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903240" y="518328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903240" y="545472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03240" y="5724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903240" y="5994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002880" y="86364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9002880" y="1133640"/>
              <a:ext cx="134640" cy="13464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9002880" y="140328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002880" y="167472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9002880" y="194472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9002880" y="2214720"/>
              <a:ext cx="134640" cy="13464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9002880" y="248436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9002880" y="275436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9002880" y="3024360"/>
              <a:ext cx="134640" cy="13464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9002880" y="329400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9002880" y="356400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9002880" y="383544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002880" y="4105440"/>
              <a:ext cx="134640" cy="13464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9002880" y="437508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002880" y="464508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9002880" y="491328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9002880" y="518328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9002880" y="545472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9002880" y="572436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9002880" y="599436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90324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9002880" y="59364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7324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44288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1288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98288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25252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2252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9252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06216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33216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602160" y="59364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7180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4180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41324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68324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95288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22288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2880" y="59364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76252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03252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02520" y="59364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57216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84216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112160" y="59364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38180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65324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92324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193240" y="59364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846288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8732880" y="593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03824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308240" y="612936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57788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4788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17880" y="612936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8752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65752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27520" y="612936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19716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6716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73680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00680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27824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54824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18240" y="6129360"/>
              <a:ext cx="13464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08788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35788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62752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9752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16752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43716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70716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716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24680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51824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78824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05824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832788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859788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867880" y="612936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777160" y="6308640"/>
              <a:ext cx="135000" cy="135000"/>
            </a:xfrm>
            <a:prstGeom prst="rect">
              <a:avLst/>
            </a:prstGeom>
            <a:solidFill>
              <a:srgbClr val="8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"/>
          <p:cNvSpPr/>
          <p:nvPr/>
        </p:nvSpPr>
        <p:spPr>
          <a:xfrm>
            <a:off x="1411560" y="863640"/>
            <a:ext cx="265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 ○○○○○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メイリオ"/>
                <a:ea typeface="メイリオ"/>
              </a:rPr>
              <a:t>株式会社　御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7039080" y="728640"/>
            <a:ext cx="190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日　　付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20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XX</a:t>
            </a:r>
            <a:br>
              <a:rPr sz="1200"/>
            </a:b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見積番号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メイリオ"/>
              </a:rPr>
              <a:t>00000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660840" y="3699000"/>
            <a:ext cx="25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メイリオ"/>
              </a:rPr>
              <a:t>○○○○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メイリオ"/>
              </a:rPr>
              <a:t>株式会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705120" y="4054320"/>
            <a:ext cx="256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メイリオ"/>
              </a:rPr>
              <a:t>営業部営業二課　担当○○○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705480" y="4329000"/>
            <a:ext cx="267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〒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0-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都○○区○○町○丁目</a:t>
            </a: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00-00 ○○</a:t>
            </a:r>
            <a:r>
              <a:rPr b="0" lang="zh-CN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ビ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メイリオ"/>
                <a:ea typeface="メイリオ"/>
              </a:rPr>
              <a:t>TEL03(0000)0000/FAX03(0000)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570120" y="5049720"/>
            <a:ext cx="90036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570120" y="5049720"/>
            <a:ext cx="900360" cy="270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部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56084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560840" y="5049720"/>
            <a:ext cx="900000" cy="270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課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551560" y="5049720"/>
            <a:ext cx="900000" cy="103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551560" y="5049720"/>
            <a:ext cx="900000" cy="270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メイリオ"/>
              </a:rPr>
              <a:t>担当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857160" y="2697120"/>
            <a:ext cx="83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メイリオ"/>
                <a:ea typeface="メイリオ"/>
              </a:rPr>
              <a:t>御 見 積 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857160" y="2208240"/>
            <a:ext cx="83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○○○○○○</a:t>
            </a:r>
            <a:r>
              <a:rPr b="1" lang="zh-CN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一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2:45:54Z</dcterms:created>
  <dc:creator>http://www.digipot.net</dc:creator>
  <dc:description/>
  <dc:language>en-US</dc:language>
  <cp:lastModifiedBy>http://www.digipot.net</cp:lastModifiedBy>
  <dcterms:modified xsi:type="dcterms:W3CDTF">2012-06-07T01:53:25Z</dcterms:modified>
  <cp:revision>1</cp:revision>
  <dc:subject>PPT165_シンプルな見積書の表紙（横）</dc:subject>
  <dc:title>PPT165_シンプルな見積書の表紙（横）</dc:title>
</cp:coreProperties>
</file>